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408944"/>
        <c:axId val="10799668"/>
      </c:barChart>
      <c:catAx>
        <c:axId val="404089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99668"/>
        <c:crosses val="autoZero"/>
        <c:auto val="1"/>
        <c:lblAlgn val="ctr"/>
        <c:lblOffset val="100"/>
        <c:noMultiLvlLbl val="0"/>
      </c:catAx>
      <c:valAx>
        <c:axId val="107996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089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378E-FEFA-40B5-84FC-EEC602BD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CD89-0CEB-486E-8D87-645E685D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7DF5-AB2A-4BD1-816D-3D5EC502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A1BE-DC0F-4FDC-ADB5-CD1E6DD65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0689-3149-4775-9B16-F6724A5F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F2F2-0A0A-4B5A-822C-284297A4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2AAE-707B-49F0-93BE-CF4779DC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2EE9-C477-4EF2-ACEC-4DFB3E51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F8FD-41E8-4519-92C2-0C378C84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BC2D-078A-4944-9ED5-09699552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23D3-99C0-4A84-B7AB-8DEA9851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9D77-11BD-4CBD-A50F-CEB4B15B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E6258-FA94-4E6A-B451-4D3BD4745F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