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61599"/>
        <c:axId val="4089315"/>
      </c:barChart>
      <c:catAx>
        <c:axId val="96461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315"/>
        <c:crosses val="autoZero"/>
        <c:auto val="1"/>
        <c:lblAlgn val="ctr"/>
        <c:lblOffset val="100"/>
        <c:noMultiLvlLbl val="0"/>
      </c:catAx>
      <c:valAx>
        <c:axId val="4089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61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90A-AE70-4533-9046-9F3658A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EED-2541-4DE3-9D10-8279431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308-1A8A-490D-96B9-11676805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9C7-D6D4-4B57-9A55-2993CA6A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BBF-E40C-42F5-B8C6-7DAA242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A69-40BE-4C39-904E-DA2F2A5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409-854F-48FA-8955-669D7296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6A8-5A30-4196-8264-EFF36F3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610-7639-4862-B960-38ACCA4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7BB-695E-4CF3-BF1E-4AAC6E38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E49-6CDC-4919-ACBA-A69C483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9C6-23E6-4DC6-887A-A881349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DC796-8C3F-4420-A8A0-F4865C92A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