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5026"/>
        <c:axId val="26665225"/>
      </c:barChart>
      <c:catAx>
        <c:axId val="762550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5225"/>
        <c:crosses val="autoZero"/>
        <c:auto val="1"/>
        <c:lblAlgn val="ctr"/>
        <c:lblOffset val="100"/>
        <c:noMultiLvlLbl val="0"/>
      </c:catAx>
      <c:valAx>
        <c:axId val="26665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50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1D0-FB32-49CC-9E60-94902605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80D-8AB9-4C8B-BAA4-A8E66C4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C25-E45E-4AB5-97AB-1752E627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E256-1EC6-458F-8000-B85DB2E9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C394-D949-4F8B-923E-4DF6C646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07E7-561E-40A5-8EC5-22CFD875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171-EB25-4967-A208-2F32BEAB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4203-F0EE-4660-A1D9-E1719BBD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1DF6-9D8B-4FDD-A6A8-5062226F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F03-97D2-427B-A5A1-48FCBF04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4FB-8C6C-4A36-BA51-496E4DB4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7AEE-CAFB-4634-A4C1-95ECFEF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6085C-0658-40AA-9E59-8149D632C7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