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115209"/>
        <c:axId val="17381695"/>
      </c:barChart>
      <c:catAx>
        <c:axId val="281152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81695"/>
        <c:crosses val="autoZero"/>
        <c:auto val="1"/>
        <c:lblAlgn val="ctr"/>
        <c:lblOffset val="100"/>
        <c:noMultiLvlLbl val="0"/>
      </c:catAx>
      <c:valAx>
        <c:axId val="173816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1152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5D7D-733B-4601-9402-2B322DAB8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FF5C-6074-4E09-A28F-66ECECD2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54F4-8A8D-4AFF-A489-32C048C0F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327E-BDD4-4E58-8474-AA0172785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455A-FCEA-4E74-8356-D433507A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8D7C-39EE-4736-B66C-3BD650C0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8443-77B3-4AB4-A3A6-24266E81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025B-5B09-40ED-A0B6-34741CD5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F8E7-5637-4A1F-B006-E8EF8E74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2476-761C-414F-91F0-5248F276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4E50-38CC-4946-8C66-16056A40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E32E-9B2A-491C-8659-BF15E6A1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6FD07-870F-443B-9FDF-9F238E367F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