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582825"/>
        <c:axId val="18642624"/>
      </c:barChart>
      <c:catAx>
        <c:axId val="465828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42624"/>
        <c:crosses val="autoZero"/>
        <c:auto val="1"/>
        <c:lblAlgn val="ctr"/>
        <c:lblOffset val="100"/>
        <c:noMultiLvlLbl val="0"/>
      </c:catAx>
      <c:valAx>
        <c:axId val="186426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5828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DF6B-E5FA-46E8-A221-F0415B49B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0DC0-0F90-4D5C-9D8B-C1280E6E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1300-DC2D-4D3F-9F5D-131777BFB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FBDE-1000-42FF-948E-37EFA26DE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2A11-01B4-40E2-AD33-73D36286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4EAC-4C4A-4CC7-BCD2-BDE7379C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D8D7-8C04-4624-8981-84075EB6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5364-608A-4871-92E2-368FF065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0273-9DB7-4F2E-94D6-9D18D86E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B92B-B425-4CF4-9F0E-B127A23C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C838-7566-4668-89FF-F060A648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29EC-8A95-4F20-A4A7-CED60A2C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AEAFAF-6142-43F0-A442-E1C5ADAF26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