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29801"/>
        <c:axId val="13203641"/>
      </c:barChart>
      <c:catAx>
        <c:axId val="98129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03641"/>
        <c:crosses val="autoZero"/>
        <c:auto val="1"/>
        <c:lblAlgn val="ctr"/>
        <c:lblOffset val="100"/>
        <c:noMultiLvlLbl val="0"/>
      </c:catAx>
      <c:valAx>
        <c:axId val="13203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9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19C-E2C8-45BF-A286-7FDF9FF6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6E6-F4D1-43F6-B970-768C1681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77A-37DD-443D-B550-4C12FBD3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2BF-EF42-4AB2-9D1C-EAB5E3C4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290-B51B-43E0-AD8F-8C6407E5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06E-88ED-40E8-A92F-101DD09B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6A2-45CA-40B9-9A83-69CE1B6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247-BA8A-417B-90FF-F8805D2A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7D2-1F4C-4ECC-90D3-2D50907A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7CA-05B7-4ACB-8DF0-1445211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11C-DA91-43A2-9869-F436EFBB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CB5-C7DA-4A95-BCAC-08FFBFC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DBFC8-2A71-49ED-B9D2-F3A5E0007A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