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1317"/>
        <c:axId val="79607112"/>
      </c:barChart>
      <c:catAx>
        <c:axId val="7821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07112"/>
        <c:crosses val="autoZero"/>
        <c:auto val="1"/>
        <c:lblAlgn val="ctr"/>
        <c:lblOffset val="100"/>
        <c:noMultiLvlLbl val="0"/>
      </c:catAx>
      <c:valAx>
        <c:axId val="79607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1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7F9-8CF5-4185-95A7-4CCEAC73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048-18F5-4D2A-83D6-A23979BD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C90-AC61-44EF-811B-E21F2DA3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EA2-4081-454A-911F-DF72567E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19B-C02C-4883-92DB-E9344ECA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550-9B27-4E9D-A0B9-BC9E0340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E13-1F29-4807-BA7A-BC495BB8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0DE-DFC7-47AC-9670-ADAA8BB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E5E-73DE-4C41-9D05-C89EEFA1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677-3EFA-4175-A450-8CB26FF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50D-850A-4B9C-82E6-87FB8A9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2B4-4731-4963-ACB5-60350664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672F6-48C1-4012-9507-AAB11681B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