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39591"/>
        <c:axId val="94546064"/>
      </c:barChart>
      <c:catAx>
        <c:axId val="24039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6064"/>
        <c:crosses val="autoZero"/>
        <c:auto val="1"/>
        <c:lblAlgn val="ctr"/>
        <c:lblOffset val="100"/>
        <c:noMultiLvlLbl val="0"/>
      </c:catAx>
      <c:valAx>
        <c:axId val="94546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39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38D-97EA-4B22-86EB-0DB17328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30E-E0F9-48F5-A70D-0B49868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9A9-11ED-4AC6-A184-DC2E78C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8B9-3CFE-4E87-976B-DAF61F72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DE1-D7D5-4013-B23E-3323E972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F12-DFB1-4EA4-A39B-209D688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CDA-2677-4326-8E75-F975491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345-CFE2-492A-A002-6675FA82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640-8E8F-49FD-9791-FB10ECA5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67B-8050-4783-A369-25F48C6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241-7B73-4FE2-A687-33CE556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CBD-5F97-414B-A312-980E219C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46D0A-1E82-4A7C-B5B1-2EC6E879F8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