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20473"/>
        <c:axId val="62419863"/>
      </c:barChart>
      <c:catAx>
        <c:axId val="88820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19863"/>
        <c:crosses val="autoZero"/>
        <c:auto val="1"/>
        <c:lblAlgn val="ctr"/>
        <c:lblOffset val="100"/>
        <c:noMultiLvlLbl val="0"/>
      </c:catAx>
      <c:valAx>
        <c:axId val="62419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20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0FE-F9B0-42AB-AD4D-27353033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58E-46A4-4AAF-9939-770A5165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9D5-879B-4263-B328-54A593A4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A80-6EEE-4A45-91FE-19AC71AC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C43-B966-49A9-B0E5-BF3A2C40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46D-4F55-45C7-8A01-E5D545C5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CFF-F878-4B46-B740-18037A2E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294-FF2A-4A8C-925A-13019A68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15F-3C25-4897-9C03-FF0ED600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A6E-D79B-4726-97C7-36060238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177-2BAC-4828-B68C-82C8E72A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299-A5BE-40CC-A9BF-5F1570B9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B2B97-520D-4394-946C-4E3F0C8629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