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71681"/>
        <c:axId val="82146176"/>
      </c:barChart>
      <c:catAx>
        <c:axId val="20771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46176"/>
        <c:crosses val="autoZero"/>
        <c:auto val="1"/>
        <c:lblAlgn val="ctr"/>
        <c:lblOffset val="100"/>
        <c:noMultiLvlLbl val="0"/>
      </c:catAx>
      <c:valAx>
        <c:axId val="82146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71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E3D-1D11-46A7-B683-4E911208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F23F-DA94-4514-A4DC-43EF42B5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463-35F6-460F-8CCF-E08C538B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5090-A8F0-4E27-A364-6B41C281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E9A-C556-48C7-9143-9D6F5183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1F2-18D1-4E6D-A1A3-E6091254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04B-F391-4BF8-9A76-0544D278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CFFA-5318-4C55-B420-6511B10A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772-3010-448D-AC5E-3210B44B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8E7-CB3C-4BC7-8C95-3DC2132E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5CB-0DE6-47F5-B750-AD213A07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2CAC-4BA2-452D-9B5C-18E5FAD7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A90C3-933B-418A-899B-3A729CDD6C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