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544117"/>
        <c:axId val="73137327"/>
      </c:barChart>
      <c:catAx>
        <c:axId val="815441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37327"/>
        <c:crosses val="autoZero"/>
        <c:auto val="1"/>
        <c:lblAlgn val="ctr"/>
        <c:lblOffset val="100"/>
        <c:noMultiLvlLbl val="0"/>
      </c:catAx>
      <c:valAx>
        <c:axId val="73137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441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08E-BC8B-476D-A790-61DF9FE6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7042-74DB-42CF-9E6F-4C5DC5F8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DF4D-1BBB-4B76-B467-79172C80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BA3-81DC-4447-80CF-63ED1319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312D-E351-4673-97E7-EA260B2A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5E2-00E1-4717-97BC-1C09E2CC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F2A8-E541-461F-8D0C-38DECCA7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B92-8799-400C-8493-5A810902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CA20-C55B-4FEC-8F92-D705D7C8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C83-FB68-4BE9-9877-FA273EEE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22C-B803-4429-BA22-40AB1626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5668-C8CC-4C87-8594-AF3BBBAB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AEDFD-5855-4AD1-81C9-C7453CC08D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