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99316"/>
        <c:axId val="48979763"/>
      </c:barChart>
      <c:catAx>
        <c:axId val="24199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79763"/>
        <c:crosses val="autoZero"/>
        <c:auto val="1"/>
        <c:lblAlgn val="ctr"/>
        <c:lblOffset val="100"/>
        <c:noMultiLvlLbl val="0"/>
      </c:catAx>
      <c:valAx>
        <c:axId val="48979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99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A26-8156-4EF7-9773-C936A8F3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691-DD4E-4216-A06F-E1E4CEFA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EC6-476D-47B9-A4C0-0AD3F3E8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CEE-89AC-46D9-A521-2951DD4A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155-9369-4F4A-A864-4B6E82B1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456-8C90-4259-AF8C-F7520E0F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947-20B1-4157-914C-0D07B95B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7150-959D-4360-BED7-4DFCCB46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75C-F76F-4DAF-ABE2-F1250714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0C7-4B93-468B-87A4-9E8C3FA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C39-D222-4381-890E-AB159F72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C79-E736-4974-A2B1-FE51EB3F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7293F-1777-4A7D-AFD4-CEDE020E03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