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11393"/>
        <c:axId val="68088149"/>
      </c:barChart>
      <c:catAx>
        <c:axId val="747113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88149"/>
        <c:crosses val="autoZero"/>
        <c:auto val="1"/>
        <c:lblAlgn val="ctr"/>
        <c:lblOffset val="100"/>
        <c:noMultiLvlLbl val="0"/>
      </c:catAx>
      <c:valAx>
        <c:axId val="68088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113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D8D-D27C-40B9-BA10-04C605AA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736-BE9D-4A5C-9178-D1CDEB20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0CB-6D87-415D-B094-01A697A0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473-AA70-4404-905E-CED79FA2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222-B18F-458A-B22F-F2D56775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CC5-38EC-4FE0-B7F5-0DCC7E46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FFE-0A0E-420C-9E01-D95F4058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CDE-3D77-4A4A-8084-982B855A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835-CFAD-4AF3-B2E6-8C2A88CB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3CD2-EBD8-47DB-B08E-4DB0D47B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774-9C96-4107-AFC2-BF003F1C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D53-AE69-421D-B66E-E29F48B8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D2F3D-B60E-4738-8D16-0002510DB5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