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868963"/>
        <c:axId val="43537788"/>
      </c:barChart>
      <c:catAx>
        <c:axId val="538689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37788"/>
        <c:crosses val="autoZero"/>
        <c:auto val="1"/>
        <c:lblAlgn val="ctr"/>
        <c:lblOffset val="100"/>
        <c:noMultiLvlLbl val="0"/>
      </c:catAx>
      <c:valAx>
        <c:axId val="43537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689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6397-A6E7-4DBC-B907-0E8E38D5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90B-3AF1-4C46-8721-8E7C16E1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F9F-E8A3-4482-A85F-EEA49C29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B00-9E72-42D0-AEBF-D9E0D387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A09D-DAFA-47C2-8EF7-418B306F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243-BFE5-4D77-9260-2BD1C030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C02-23D1-4569-BF94-15866AA4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BFAA-A5BE-4DEF-8777-62771686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CDF-CB6E-4F7E-8A7D-AE7A2F64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D6F-2540-43A6-BBD9-71DCD17A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8D2-ADA4-4CD2-982B-203DCD91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A9D0-0108-4164-A398-65C9EF90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A29BB-38AC-41C0-A9D2-2C1F8D4A9A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