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79943"/>
        <c:axId val="49249928"/>
      </c:barChart>
      <c:catAx>
        <c:axId val="38879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49928"/>
        <c:crosses val="autoZero"/>
        <c:auto val="1"/>
        <c:lblAlgn val="ctr"/>
        <c:lblOffset val="100"/>
        <c:noMultiLvlLbl val="0"/>
      </c:catAx>
      <c:valAx>
        <c:axId val="49249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79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C28-91BC-4647-A137-A86EC206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0CE-3632-4CB5-A475-EC416BAB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FFE-BA6D-4E78-A411-DD1AF4C0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E16-AD23-4618-8FDB-FF21CF1E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268-B225-44E7-971E-CC480643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385-5ECA-4FDE-BC0B-BD18BD59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C3C-1099-4AF0-90B7-E17359D2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AF9-03C7-44C4-8487-B5E9366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320-1969-4AB6-BBE9-45CEF238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B55-8260-4A77-B452-9ED1A49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640-E271-4FB9-B8FF-56D27EE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5FD-F162-4EEB-88BF-47F6C7A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A2591-A64C-4B73-BCE5-D668BF3790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