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544923"/>
        <c:axId val="1516314"/>
      </c:barChart>
      <c:catAx>
        <c:axId val="425449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16314"/>
        <c:crosses val="autoZero"/>
        <c:auto val="1"/>
        <c:lblAlgn val="ctr"/>
        <c:lblOffset val="100"/>
        <c:noMultiLvlLbl val="0"/>
      </c:catAx>
      <c:valAx>
        <c:axId val="15163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5449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A357-73E7-4D15-8134-75D4F2427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7CF7-436F-4283-8FB3-3942F2E5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2B23-8F64-4059-A84B-1956F2217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62A8-3165-4426-BB6F-D5D473344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BFC3-C6B1-4B72-A2BE-8278B379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59EE-8E91-43F8-A139-B0693D92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475C-48CE-44D1-86E4-811EE0E3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3816-912D-4E97-A85A-8BA16187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BB81-82A7-4356-AAFD-A15CCF69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16C9-F24C-4F4C-8312-B8798F38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5EFC-A702-4E7B-B5C2-05722DC5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58A9-81F9-4381-A117-1AC42DF7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D53B76-7BB4-4D42-BBDC-B74D0B23D7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