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80110"/>
        <c:axId val="18958939"/>
      </c:barChart>
      <c:catAx>
        <c:axId val="60680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58939"/>
        <c:crosses val="autoZero"/>
        <c:auto val="1"/>
        <c:lblAlgn val="ctr"/>
        <c:lblOffset val="100"/>
        <c:noMultiLvlLbl val="0"/>
      </c:catAx>
      <c:valAx>
        <c:axId val="18958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80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CC33-5B6B-41BD-89DA-EE093A97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A444-6F79-4EA0-B428-955349D2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217-0BFB-4D88-B72C-7761DBDD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5A5-AC7F-4A61-A937-D16E4F61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949-919B-457F-9815-21901342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98F-09DC-4350-8D19-2AD4ED0F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392-8906-4E5F-9EFA-F58A62A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BB8-EEA4-4F20-B65A-2777309E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611-0C41-47D2-A7F4-18EF4679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E3A-59A7-4815-B85C-DA97C6BB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F0E-3004-49D5-AA32-877F9F67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137-EFFB-49CA-9079-E54EFF7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335A0-6706-4B04-BC21-8D57B4F788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