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988608"/>
        <c:axId val="5677317"/>
      </c:barChart>
      <c:catAx>
        <c:axId val="719886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77317"/>
        <c:crosses val="autoZero"/>
        <c:auto val="1"/>
        <c:lblAlgn val="ctr"/>
        <c:lblOffset val="100"/>
        <c:noMultiLvlLbl val="0"/>
      </c:catAx>
      <c:valAx>
        <c:axId val="56773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9886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7292-85EA-42BC-A715-10DC9B1D3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4523-0334-4B68-8293-6FA23825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0F23-51EF-4147-B6A8-294F36CCA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726C-29D7-43BD-8EDA-BC70C25E1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45F8-0DC9-4927-A16B-8280F0A2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02D8-2884-4DDE-999E-C4D59B89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81AB-95CF-4F39-ABAD-402C0AC5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C9D3-CCDC-494C-ADC6-0EA09682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1136-CF67-40A5-906C-1FF03D03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A76E-E506-4341-BCD5-502D2EAA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3B7F-B73B-4151-B32B-B32F3ECE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CE35-BCFD-41DC-A68E-3466A516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5B552A-BDD9-4425-8B41-1C5CF21A69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