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54332"/>
        <c:axId val="4012347"/>
      </c:barChart>
      <c:catAx>
        <c:axId val="78354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2347"/>
        <c:crosses val="autoZero"/>
        <c:auto val="1"/>
        <c:lblAlgn val="ctr"/>
        <c:lblOffset val="100"/>
        <c:noMultiLvlLbl val="0"/>
      </c:catAx>
      <c:valAx>
        <c:axId val="4012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54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26A-8EF3-42AE-9114-32D724AD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3B4-F347-43A3-BE0D-1FD421F0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036-B8C6-47B8-AA71-296636B3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4B1-7014-4AC5-8EFB-64EE81AF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2E3-F69F-4E36-B408-2F28B304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490-3CF9-490B-B3C8-A6731543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93F-E31D-4775-A83A-7A819E71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4F3-1427-4313-9938-18D59021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B90-B3AC-45BA-9EDB-039CB45B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136-0212-4647-8DD8-FDBADC4F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D13-450A-4C34-AACD-83DC3C97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8FE-06FC-432D-9AA5-34C1549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40F96-EE0F-4303-9186-F21D95481E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