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90508"/>
        <c:axId val="2621872"/>
      </c:barChart>
      <c:catAx>
        <c:axId val="61090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1872"/>
        <c:crosses val="autoZero"/>
        <c:auto val="1"/>
        <c:lblAlgn val="ctr"/>
        <c:lblOffset val="100"/>
        <c:noMultiLvlLbl val="0"/>
      </c:catAx>
      <c:valAx>
        <c:axId val="2621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90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027-2B9C-4951-ACF1-BC8996C2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5D5-286B-44F2-B2A8-2CB7F305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578-41EB-4FAF-BFD3-798D855A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854-E1D0-476A-92E3-560E9FA8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890-4EFC-44AB-8E7A-DBB333F7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A78-2A4F-43B1-9B95-91072AB1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55E-576C-48B8-AC33-EF905E6D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C83-C228-41E3-AB54-C7867D53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24D-380E-43CD-8BD9-D30809F7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41F-9941-4B61-A2F2-F642123F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200-E3B8-4502-A278-90569F42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FE6-8595-43FF-BA77-E37D8F7A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52A74-E3E5-4B9F-9136-3A8356BEAF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