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87770"/>
        <c:axId val="23057491"/>
      </c:barChart>
      <c:catAx>
        <c:axId val="95387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7491"/>
        <c:crosses val="autoZero"/>
        <c:auto val="1"/>
        <c:lblAlgn val="ctr"/>
        <c:lblOffset val="100"/>
        <c:noMultiLvlLbl val="0"/>
      </c:catAx>
      <c:valAx>
        <c:axId val="23057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87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B94-D958-4179-9FAD-6828030E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EC3-0E8C-42AC-910F-1CA4E98B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9DC-2699-48C6-804C-40A50272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C45-AE98-48EE-B9EE-A4915461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52D-B2FF-45F9-90C4-00CB0EA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052-38D8-4654-8611-C5408632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AAE-926F-404B-929F-B4961FD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5C4-6822-4020-BB8D-58D72197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C2E-A541-459D-93FF-2BF386D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03A-30CA-472A-B93E-9BAC90F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B10-5472-4644-83A6-143476A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361-EE61-453E-87D6-7D74300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CAAC2-E797-4016-A8A6-BCF688191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