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92545"/>
        <c:axId val="69554623"/>
      </c:barChart>
      <c:catAx>
        <c:axId val="51192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4623"/>
        <c:crosses val="autoZero"/>
        <c:auto val="1"/>
        <c:lblAlgn val="ctr"/>
        <c:lblOffset val="100"/>
        <c:noMultiLvlLbl val="0"/>
      </c:catAx>
      <c:valAx>
        <c:axId val="69554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2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CAB-BDE4-4194-BEE9-6AEFA37A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850-F4B9-450A-9E02-82C5EE6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73F-A767-4FA1-8875-67693C3A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F89-F864-4D92-9DC1-043139BB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696-4D81-46D8-A7C8-E917DA8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E24-1E62-4805-A1A0-9AC09C1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AD0-D9A7-42DF-BC84-DD917CCC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143-542E-4CC8-9D73-729CCC32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0DC-D4BD-471B-9205-05AB2ED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1E7-06D4-4E65-94AF-54E3FB4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7A5-1390-4AE9-8BC4-93914F6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F5A-A817-453B-A31D-2FB2063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097D-7B37-4370-87C4-9D09F4157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