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63932"/>
        <c:axId val="84813005"/>
      </c:barChart>
      <c:catAx>
        <c:axId val="55763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13005"/>
        <c:crosses val="autoZero"/>
        <c:auto val="1"/>
        <c:lblAlgn val="ctr"/>
        <c:lblOffset val="100"/>
        <c:noMultiLvlLbl val="0"/>
      </c:catAx>
      <c:valAx>
        <c:axId val="84813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63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059-A03D-4F9F-99CC-6160A8A2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61D-90C6-451F-A5F4-7F7A176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3DB-3760-4D3B-A970-7D8F590A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914-F47A-43FF-9800-70BD3695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972-B658-4AE5-8953-5F2FED18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31C-13A4-461F-B31D-9B926DD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DA0-3511-471A-AD16-FDF8245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8DF-53BA-4B7F-9FA7-5B73136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AEB-702E-4C77-8BBB-DF51EFCD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0B3-5B1E-40F4-BD52-2226266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A81-9F8B-4D51-B6A9-AF194B2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F97-5A7F-4381-B4E0-04629C4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950E6-8E72-483C-B547-8BAC78E72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