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69205"/>
        <c:axId val="90454395"/>
      </c:barChart>
      <c:catAx>
        <c:axId val="24769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4395"/>
        <c:crosses val="autoZero"/>
        <c:auto val="1"/>
        <c:lblAlgn val="ctr"/>
        <c:lblOffset val="100"/>
        <c:noMultiLvlLbl val="0"/>
      </c:catAx>
      <c:valAx>
        <c:axId val="90454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9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825-07BC-4E26-AC8C-8B23112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084-5A76-4D04-A3FF-C1D446E8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AAB-D7D6-4A9F-B921-32B42667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A9D-25B7-48A5-A1E3-CA76840E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8CB-B9CE-49E5-B1D7-DFCE798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334-2E56-4BE5-9EAC-244DA93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E5D-EB28-4735-B9EC-3B4E86D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C85-F9EC-4111-A3C1-28C69FE5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F98-7975-44FD-A369-6DC8BBAC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978-DBD1-4F2A-9165-4F8752B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B25-7507-4843-8E66-D10A22D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B60-3CF8-416F-9A7B-A4D411F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BA938-052B-43E3-872B-85D9D81D56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