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61513"/>
        <c:axId val="6620340"/>
      </c:barChart>
      <c:catAx>
        <c:axId val="64561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340"/>
        <c:crosses val="autoZero"/>
        <c:auto val="1"/>
        <c:lblAlgn val="ctr"/>
        <c:lblOffset val="100"/>
        <c:noMultiLvlLbl val="0"/>
      </c:catAx>
      <c:valAx>
        <c:axId val="6620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1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418-A3C1-477F-9B77-AB774A74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A41-5AFC-439D-92E1-47EE0C94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A09-8040-4B57-8A93-95F2469A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98F-740B-413B-83A0-F93865B6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E24-A1B6-4578-842A-EB3ACA55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08C-B9F0-4AD4-9018-4F39D923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F5C-5C98-4CD1-A491-355223A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D8E-C17A-4A0E-BFD4-77C4BD98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C9E-FBF4-4D28-B714-3C01B839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FEF-D82E-4EDD-8FBC-3505B1A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6F6-98C7-4F58-B683-F6829ED8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C0E-435D-4585-AA51-FBB676F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8473-9BFF-4EAE-AB91-5D6B4E6D4C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