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14077"/>
        <c:axId val="66796832"/>
      </c:barChart>
      <c:catAx>
        <c:axId val="7721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96832"/>
        <c:crosses val="autoZero"/>
        <c:auto val="1"/>
        <c:lblAlgn val="ctr"/>
        <c:lblOffset val="100"/>
        <c:noMultiLvlLbl val="0"/>
      </c:catAx>
      <c:valAx>
        <c:axId val="66796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1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D24-D93F-44AE-B38E-32217A75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81A-0D42-4B16-94D1-D3645429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D12-44A9-486D-A5B8-8E67D034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413-A102-4263-B8FD-F24F6C10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876-DED8-455F-AB5E-0F66D7C1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2B4-F159-4213-943C-2D47AC47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5DA-01BD-43A2-9F54-25508DF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037-8D9A-4825-A452-529EF51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B24-0598-4B10-9CAD-74041D8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6A2-ADDB-43F2-865D-285BACE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534-035C-4983-8CBE-B6F13F7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69F-3CFF-4388-9D36-9EAD68B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1F8E5-9EE4-428A-B9B8-38785CE3E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