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66427"/>
        <c:axId val="92944732"/>
      </c:barChart>
      <c:catAx>
        <c:axId val="25766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44732"/>
        <c:crosses val="autoZero"/>
        <c:auto val="1"/>
        <c:lblAlgn val="ctr"/>
        <c:lblOffset val="100"/>
        <c:noMultiLvlLbl val="0"/>
      </c:catAx>
      <c:valAx>
        <c:axId val="92944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66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815-A503-44B0-A496-46EA7AB3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D46-76C5-4BCD-A701-FDEB3B5C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7D0-ACDE-499E-A862-9CCBF0C4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FD9-CCE1-44BA-AFF9-1F1B8E80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57E-98D8-405F-A54E-9CDC5B20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722-21BF-46C7-AAEB-BFCA07E7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37D-38EF-45C1-8468-B994D6E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342-0442-43C5-A2DF-94691F21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3B7-E89F-4B3F-8F39-E8D2C8F2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6E6-F397-4EDF-B417-539C3E6D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FBC-2DE0-4EAB-A8C9-65D45F23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C9B-E1C5-440A-829C-29928C74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C82E1-7BEC-4A61-9133-C50EE9DD60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