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84198"/>
        <c:axId val="75671518"/>
      </c:barChart>
      <c:catAx>
        <c:axId val="85084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71518"/>
        <c:crosses val="autoZero"/>
        <c:auto val="1"/>
        <c:lblAlgn val="ctr"/>
        <c:lblOffset val="100"/>
        <c:noMultiLvlLbl val="0"/>
      </c:catAx>
      <c:valAx>
        <c:axId val="75671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84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66F-54E6-4B5C-829C-A0D10BCE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E61-3A74-4504-8CF1-C754E6DB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38A-84F0-4DEF-A2EF-D8248A5B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342-13CD-4E61-B5C6-9AB437B3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F69-4E09-4EB9-B59E-C0E9CDE4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CC5-9C4F-47CB-AB64-E6E56DE1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13C-525F-4C2E-8506-EFFB460A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945-906D-416E-9350-9BD6B651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DF0-EA9D-44FB-8DAD-DF11E00B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59E-9215-4E13-B22E-D59B2E79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04B-C7DA-4CB1-A4D0-0DA885C4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3FC-80AF-4DC6-820C-9F488423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CCAC1-9913-400F-8A2A-2E6A704A9C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