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145349"/>
        <c:axId val="81483036"/>
      </c:barChart>
      <c:catAx>
        <c:axId val="691453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483036"/>
        <c:crosses val="autoZero"/>
        <c:auto val="1"/>
        <c:lblAlgn val="ctr"/>
        <c:lblOffset val="100"/>
        <c:noMultiLvlLbl val="0"/>
      </c:catAx>
      <c:valAx>
        <c:axId val="814830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1453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480A-C48A-4C01-9C19-D962B58ED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0E7A-E634-498A-8968-7E22A35A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8EA4-7BCB-4DC9-97A3-31C621B66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A64C-E39A-4F84-9D2A-E8EA87E72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96C8-141C-4F3D-9D3F-BCF68E73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3566-764B-4D77-97A9-06D81586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4160-0CC4-4543-84DE-CDC529B4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94F5-AE2C-444F-BC88-4F5AB00C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26E1-05D4-4A8E-95D1-19A4F229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8BE2-B7C5-44C8-9A77-EE6B3722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FA9F-794B-4C76-9DE9-17E65FB6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EEB8-D0FB-4273-9FCE-07BF852C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1D041-41F4-4B67-8D46-2EA02D14FB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