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083827"/>
        <c:axId val="74250788"/>
      </c:barChart>
      <c:catAx>
        <c:axId val="890838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250788"/>
        <c:crosses val="autoZero"/>
        <c:auto val="1"/>
        <c:lblAlgn val="ctr"/>
        <c:lblOffset val="100"/>
        <c:noMultiLvlLbl val="0"/>
      </c:catAx>
      <c:valAx>
        <c:axId val="742507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0838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48FF-BC88-43FB-AF19-6BA34E432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D86C-F554-4A1B-AD14-CB491C9D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9B73-1549-45D8-BF69-A5B5C7D40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2D07-A1EF-45CA-AF85-271A0FA83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F26C-E18F-4249-AE87-3844C0BC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D7CB-9F5A-4311-AFB0-7403D22E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34FE-8AD8-4F72-8566-6E006826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D3F7-4B5C-494A-A632-AAB3E2BF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4781-73F9-4623-8D5C-FDEFB93E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C830-EA4F-4FB8-A4E4-5825D0EE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61DB-6B05-4C15-BFB6-D8C40716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5E63-B821-4750-86A2-DEC83F2F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99F082-1638-419F-BEAC-AE769C8540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