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623991"/>
        <c:axId val="68457615"/>
      </c:barChart>
      <c:catAx>
        <c:axId val="266239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57615"/>
        <c:crosses val="autoZero"/>
        <c:auto val="1"/>
        <c:lblAlgn val="ctr"/>
        <c:lblOffset val="100"/>
        <c:noMultiLvlLbl val="0"/>
      </c:catAx>
      <c:valAx>
        <c:axId val="684576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239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8470-A3B2-4A0C-B664-927A347B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7892-D2B6-4DD6-897A-E7055F08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7F5C-3419-48D8-8E69-55A78316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9E72-46CA-4A7D-B50A-CC0F1969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569F-235B-4716-B14E-EDFB39C9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A10F-2910-4FAB-AC95-7BDAF1C6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CEEC-31E1-4091-B43F-A76B2A45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71F1-4BA7-4DB7-AEEA-DECC7221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6014-2A11-4CFA-AA13-CF8CE3A2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9A66-7A27-4322-A18A-23B456D7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7AF5-FEAD-4E30-9AB5-E26986EC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387A-9DEE-4EDE-8FCD-D3005211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BAFD1-215B-4973-81AA-9F13E719A1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