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36837"/>
        <c:axId val="58807106"/>
      </c:barChart>
      <c:catAx>
        <c:axId val="18536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7106"/>
        <c:crosses val="autoZero"/>
        <c:auto val="1"/>
        <c:lblAlgn val="ctr"/>
        <c:lblOffset val="100"/>
        <c:noMultiLvlLbl val="0"/>
      </c:catAx>
      <c:valAx>
        <c:axId val="58807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6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605-2857-4648-A446-6FB630E7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923-1AC6-4D9F-A14F-BDF74C8E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ABF-B7AD-4F01-B261-6BA80C6E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5CA-6D4B-471B-A946-2CEED95E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CB1-FFF9-4964-B8FA-0BB32175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1ED-02FA-4BA9-9561-2F336FC3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897-DFF1-454A-9B31-8E4D1138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BF9-7422-4C2C-9212-280C80DE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357-28E7-4EB5-AF4F-673E191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345-90FE-4713-8512-E3BA75C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750-1FD4-4959-B652-668F8370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B49-1416-4C2E-8AED-6720216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7260B-10C5-409D-B7A9-C44B1C1A3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