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19098"/>
        <c:axId val="86205505"/>
      </c:barChart>
      <c:catAx>
        <c:axId val="39919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05505"/>
        <c:crosses val="autoZero"/>
        <c:auto val="1"/>
        <c:lblAlgn val="ctr"/>
        <c:lblOffset val="100"/>
        <c:noMultiLvlLbl val="0"/>
      </c:catAx>
      <c:valAx>
        <c:axId val="86205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19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175-C92D-4ED2-BB1A-A1905564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F19-182A-4F37-8597-AB02EB13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34A-1A54-4E79-AAF8-9B31CA59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475-C050-4A51-9421-F3237E45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D63-F117-4E0B-A941-FD7068B5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F24-C430-48CF-B16A-A54ED8C3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E7E-32F4-4F69-A85E-B8B1205F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648-1CB1-4061-9002-183275F1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908-E934-46D8-9294-928543F5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5E2-E6EE-4998-88FE-D2C7C97D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204-AC0E-472C-83AE-696F7009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528-B5E5-40D7-8963-CB7155D1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482F5-EB46-4242-9A47-6603E4C2AB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