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105873"/>
        <c:axId val="7311720"/>
      </c:barChart>
      <c:catAx>
        <c:axId val="991058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1720"/>
        <c:crosses val="autoZero"/>
        <c:auto val="1"/>
        <c:lblAlgn val="ctr"/>
        <c:lblOffset val="100"/>
        <c:noMultiLvlLbl val="0"/>
      </c:catAx>
      <c:valAx>
        <c:axId val="7311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058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FE59-9F4E-4D03-B265-0A13B7A3D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391C-984F-4B62-8B2F-B27C1820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F9C3-249B-4AD4-8C17-9F310076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0556-B268-4D01-86D8-A3881CB5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9843-734F-4365-8643-2DCAC775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EF8-ECF6-47B5-9432-3825C77B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81F8-C6C5-47AD-B8EA-945C7C6D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56AE-E78F-45B0-93F0-F8B1DF9D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56E0-C348-4FC3-B9F8-31D873DE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F193-744F-4245-856E-CE25B59D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F843-09D4-474F-AAE4-025E7BAA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517B-4D48-4A35-981B-88F6A3AF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68FF9-E3F8-4B26-974C-FA838B3E74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