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548857"/>
        <c:axId val="15292239"/>
      </c:barChart>
      <c:catAx>
        <c:axId val="15548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92239"/>
        <c:crosses val="autoZero"/>
        <c:auto val="1"/>
        <c:lblAlgn val="ctr"/>
        <c:lblOffset val="100"/>
        <c:noMultiLvlLbl val="0"/>
      </c:catAx>
      <c:valAx>
        <c:axId val="15292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48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E39-583C-4609-8722-05CAAAD4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204-8340-4D0F-BE12-0C45E1FD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DC5F-82ED-4F07-A2DF-F9982F2A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40C-DE5C-47F0-BF31-414AFC2E3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064-01C9-4D92-BB37-4C3DF115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F405-3C7B-4709-BBB1-F901D9F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864-7557-45F2-8BC5-3D4B234E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88F-107E-4090-92F7-AD537C15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6D2-B392-407F-AE98-486A8B42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9E9-DEE0-45F4-A057-4A8A359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BE6-2E74-499D-A765-D9DFCA7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C2B-FB85-42F9-BB48-3294E3B5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96637-39A3-4FB1-81D7-6ED2ABE4B7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