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13071"/>
        <c:axId val="25214494"/>
      </c:barChart>
      <c:catAx>
        <c:axId val="27113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4494"/>
        <c:crosses val="autoZero"/>
        <c:auto val="1"/>
        <c:lblAlgn val="ctr"/>
        <c:lblOffset val="100"/>
        <c:noMultiLvlLbl val="0"/>
      </c:catAx>
      <c:valAx>
        <c:axId val="25214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13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E23-5CFA-4075-AD7A-11BA7408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8E7-95FB-4937-B389-BEDC407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4DC-C426-41C5-9BA7-991D0727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DC3-C7CE-49A5-8C2B-246FC6D7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909-C38D-436C-AA91-DD455D53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733-FD81-48DB-B807-8AA9219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163-F4CE-450F-8E18-20855544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E33-C6C2-470C-AB74-B42ACF58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0A9-54F6-4124-A71F-5245EDA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4A0-1310-42A0-8B97-2F2107D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20E-F25F-4056-86F9-0EB0C67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D3B-BB59-4E27-9D70-E21816D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B897D-A627-49D2-815D-D5E532151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