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60485"/>
        <c:axId val="66161729"/>
      </c:barChart>
      <c:catAx>
        <c:axId val="99260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61729"/>
        <c:crosses val="autoZero"/>
        <c:auto val="1"/>
        <c:lblAlgn val="ctr"/>
        <c:lblOffset val="100"/>
        <c:noMultiLvlLbl val="0"/>
      </c:catAx>
      <c:valAx>
        <c:axId val="66161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60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023-23BB-4F69-8B7C-6C75C485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DFC-650A-407E-9984-6543B5EC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0D8-AF72-434B-A315-60007DB6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245-B950-46FB-AC28-00007DB9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D19-4CB4-4E24-BD51-8121BCCB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3EA-E0B7-470D-A7C2-3F2E1BBD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177-2827-4404-A723-33C4311F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9E0-CA93-4254-AED3-B56814AB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525-444A-4739-B1BC-DA43B530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DF7-EC78-4AC4-8B53-C8EBE92E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469-59FD-43A3-BA21-9DE4FC48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CAE-BB04-45BA-94D8-FE49D1F7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65B86-670E-46C2-A648-8C92F3D967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