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655970"/>
        <c:axId val="63930993"/>
      </c:barChart>
      <c:catAx>
        <c:axId val="916559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30993"/>
        <c:crosses val="autoZero"/>
        <c:auto val="1"/>
        <c:lblAlgn val="ctr"/>
        <c:lblOffset val="100"/>
        <c:noMultiLvlLbl val="0"/>
      </c:catAx>
      <c:valAx>
        <c:axId val="639309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559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C7D6-DFE6-477D-A911-87636999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B75B-B9B1-4723-8C49-460853D0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30D4-DF0C-45D6-BF04-59BED7699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A838-97D7-42CE-8B6D-1DDECE3D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4CC4-F64D-49DE-8CBD-71EFECD2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0A12-C84D-4836-82C8-2A54A2BA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E1CC-1058-424D-9E31-C9B65C14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35D4-555A-41C5-917F-338841D2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F0DD-6B38-42AE-80F3-62071C97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D9E0-AD58-4D27-B8A5-D187B7E9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C0E1-F3BA-46DC-879C-F4F81D2A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3C66-BCA2-4221-8254-90D23321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BDF53-40F2-483E-B30E-ECA8806E6C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