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99382"/>
        <c:axId val="33680498"/>
      </c:barChart>
      <c:catAx>
        <c:axId val="56399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80498"/>
        <c:crosses val="autoZero"/>
        <c:auto val="1"/>
        <c:lblAlgn val="ctr"/>
        <c:lblOffset val="100"/>
        <c:noMultiLvlLbl val="0"/>
      </c:catAx>
      <c:valAx>
        <c:axId val="336804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99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C45-DDB0-412B-9927-68AE6B23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522-DFB9-4C87-B11C-7CB1E45D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29D-3B2F-42A7-B9A3-3F245C92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166-93D8-4A26-9FDC-D4A92A9D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79B-09D8-4F42-96D5-78C1A645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34D-9545-4443-99DF-5541BC67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3B9-378B-4819-AC1E-E297415D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6BB-EBF2-4D70-BD4B-16FEBC89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542-BA03-4BC8-92C4-DA705D30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29D-0FD9-4E53-B377-4EA1E32A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D25-4B22-4921-B459-B65D5956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C30-B8A9-4DD1-82D1-B325E0F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67CF0-BB79-4232-9ED4-A36AB97DE2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