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99602"/>
        <c:axId val="34752992"/>
      </c:barChart>
      <c:catAx>
        <c:axId val="35699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52992"/>
        <c:crosses val="autoZero"/>
        <c:auto val="1"/>
        <c:lblAlgn val="ctr"/>
        <c:lblOffset val="100"/>
        <c:noMultiLvlLbl val="0"/>
      </c:catAx>
      <c:valAx>
        <c:axId val="347529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99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490-94E2-44CF-B157-F0AB3308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749-818B-4A5A-9796-C96A8D2A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CB53-B6A1-4740-B2AB-78C631C9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A8C-BADF-41A2-A4CC-E773D091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4CA-EFC4-4CE7-B8AA-444FA0BC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A2D-7FB5-4C0F-AAE1-B72BC603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845-771C-415B-BCD0-F602F773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225-3EA2-4CAC-B832-331EF3B4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F18-B3FA-4FAF-9F40-5FC518BA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F88-7562-4B08-A66B-D10FFFAB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70F-5D0A-4779-B309-3B3DB926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AD0-12CD-4AD7-87F4-94DFD72A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D9154-FAAE-401A-9FC0-9F4A049538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