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139001"/>
        <c:axId val="53395085"/>
      </c:barChart>
      <c:catAx>
        <c:axId val="92139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95085"/>
        <c:crosses val="autoZero"/>
        <c:auto val="1"/>
        <c:lblAlgn val="ctr"/>
        <c:lblOffset val="100"/>
        <c:noMultiLvlLbl val="0"/>
      </c:catAx>
      <c:valAx>
        <c:axId val="533950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39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7AB-73D9-40C1-B65A-B75EFCDD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3411-890C-4005-9210-303200AA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CDC-F7DA-4A7D-B0EC-41F951B6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61D3-55CE-451A-988E-CEB1F4E5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EBB-7EE8-4FB0-A6B0-E9FA0CF2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AF28-20E5-4ED0-A82B-6FB4FF22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B97-4522-4950-81D8-143FDC52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2EE-F93B-4C75-B09E-E392BAE8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1F5-FD8C-4294-B323-EF9B8898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DA57-D923-4CBF-9946-7F101D7A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211-B002-4DDD-B837-721D8C49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C84-7850-4078-9F37-215FA382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A2D57-00D2-4AA4-8A6F-6595D3E5AB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