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88282"/>
        <c:axId val="11350150"/>
      </c:barChart>
      <c:catAx>
        <c:axId val="632882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50150"/>
        <c:crosses val="autoZero"/>
        <c:auto val="1"/>
        <c:lblAlgn val="ctr"/>
        <c:lblOffset val="100"/>
        <c:noMultiLvlLbl val="0"/>
      </c:catAx>
      <c:valAx>
        <c:axId val="11350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882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750-97B8-4BD8-9BEC-3CA0BB6D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8E0-F72B-4F92-A8F5-C7281817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9A2-9CAD-4402-9BD8-795278F6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CCA-0346-4EA9-8DF7-B5E2DFBB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C29-B675-4E6D-9AAF-6A95FF6E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DC6-F73B-4E01-B7AD-EC720453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D2B-F6D2-4EC4-BC8F-0B483C0C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8DE-2C0C-411A-9157-56B97259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567-1036-4517-859C-DF9DA8FA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45F-A95F-40C9-8094-495FF898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F53-0A4E-4E7E-B7B0-21D5FE8D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51F-6538-426E-B347-075F9FCA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85228-71F2-434D-BA3D-2FB29A7C39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