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64759"/>
        <c:axId val="55896093"/>
      </c:barChart>
      <c:catAx>
        <c:axId val="98764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6093"/>
        <c:crosses val="autoZero"/>
        <c:auto val="1"/>
        <c:lblAlgn val="ctr"/>
        <c:lblOffset val="100"/>
        <c:noMultiLvlLbl val="0"/>
      </c:catAx>
      <c:valAx>
        <c:axId val="55896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64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65E-AE08-4F50-BCA8-77168376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EAF-00E0-435F-A926-F0DF78B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331-60E2-4997-931E-634EE233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5AC-380B-471A-AB28-515863DA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97C-332F-49AB-9B2E-A2EE418B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DA3-C154-46E4-9524-A4E52B6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7E6-B956-4D81-B940-C6A272C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65A-9903-466F-9BC0-478EB08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DA4-6BF4-449F-9FAE-DA64010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181-0243-4BD8-8ED0-DF738D52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C3F-CA11-4F54-A923-50F0324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1D0-DDBB-4FB2-8783-C60E660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07C37-7580-475E-87A9-E1BF4A43F5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