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094699"/>
        <c:axId val="87034272"/>
      </c:barChart>
      <c:catAx>
        <c:axId val="510946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34272"/>
        <c:crosses val="autoZero"/>
        <c:auto val="1"/>
        <c:lblAlgn val="ctr"/>
        <c:lblOffset val="100"/>
        <c:noMultiLvlLbl val="0"/>
      </c:catAx>
      <c:valAx>
        <c:axId val="870342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946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680A-0950-4C78-8AFA-B82035AF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B4CA-73D4-46BF-A05E-4129AA1E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552A-70E0-4DD8-8A46-AB126201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0472-C1F5-469C-823A-C67B1B3F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BC24-B36B-4B18-8ACE-B0998A46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946B-A047-484E-8BD0-7A9BFAF9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8DDE-183B-4460-B6F9-F6883A8E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3E50-5B8D-4D7C-B2ED-8523AFEC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42CA-01FC-40D1-A817-7F222078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B80C-B7CC-4022-A868-7184944D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1A6E-D622-4E3E-A4B8-D9B973E7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56E1-9E46-479A-BDF4-92EAB439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43F7D-2768-4724-87BA-5030DE6BCA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