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21381"/>
        <c:axId val="24818625"/>
      </c:barChart>
      <c:catAx>
        <c:axId val="95421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18625"/>
        <c:crosses val="autoZero"/>
        <c:auto val="1"/>
        <c:lblAlgn val="ctr"/>
        <c:lblOffset val="100"/>
        <c:noMultiLvlLbl val="0"/>
      </c:catAx>
      <c:valAx>
        <c:axId val="24818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21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3D9-2FA2-455C-B830-F5D3C0D7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674-19BA-40C7-AA4B-A0AD8D37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75F-4F1B-4574-87BF-7A272E27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00A-05C2-4968-A746-48650850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9DF-D76D-40E0-9006-BB877750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754-9820-42BA-BBDD-18A9104C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8AA-321D-4BE6-8BD0-A57F526D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354-1DF0-4F0B-BB28-147A78C8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966-8CA3-4CCD-8BB2-BAE67790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3CA-027F-4F9D-9C3E-EBDE65F0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A2A-074A-4B7F-9077-9FF61B09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4E6-65EC-442D-BF72-2409801B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4F43E-A5FC-433B-A502-B45C59A529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