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85048"/>
        <c:axId val="64543993"/>
      </c:barChart>
      <c:catAx>
        <c:axId val="6998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43993"/>
        <c:crosses val="autoZero"/>
        <c:auto val="1"/>
        <c:lblAlgn val="ctr"/>
        <c:lblOffset val="100"/>
        <c:noMultiLvlLbl val="0"/>
      </c:catAx>
      <c:valAx>
        <c:axId val="6454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8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2C9-95CC-4708-9E1C-7D8A6CAE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BB9-598F-4461-94FC-10AACAC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016-6721-4620-8376-756D7C86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28A-A6DF-41BB-A5F6-AF8E73C0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02D-5F64-4EFD-AA9F-D89F0B9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B74-9277-47F1-9169-C997398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67A-B292-40A6-BDC4-D79B5194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D9-EA91-4F6B-BAE2-C4D17543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390-598B-478B-A5ED-550D1139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EA4-160E-40E2-87D2-F5FA476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FC1-1278-4014-BA50-D1ECA80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15C-53AA-4E57-8120-3922DDF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8B4C6-F27D-4F76-83E6-B1D1E6435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